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3E6-A4A4-4E1D-B151-A6187276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959-0A3D-4359-B1F6-B8021577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665-8155-4172-860B-906F0914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21C-21CA-4047-B1A8-AA6CEC03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EB5-DB61-49B0-B097-14BBC840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D5D-4CC6-408B-A0A4-A56415EC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E0B-C228-4CFD-BF73-A827AD52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53D-87CE-4F05-886A-6025B0B7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600-CEF3-4CC2-9BB9-31904EFA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F31-2794-4907-B95E-99CED8F7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3FB-6177-4F50-95AB-B562939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0AC-27F3-477C-8015-B81336A9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RISTMAS EVE EVE, Teresa Jenn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11 Plank Road Publishing, Inc. • All Rights Reserv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C2CE-35D3-4B1B-AEAC-12A6C943B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124080" y="3735360"/>
            <a:ext cx="2895840" cy="243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6448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1880" y="568440"/>
            <a:ext cx="6387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 Christmas Eve ev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so excited, it’s 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 Christmas Eve ev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so delighted, it’s 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68280" y="968400"/>
            <a:ext cx="7035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bells are ringing. All the jingles jing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he jolliest, merriest, second best eve of all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8920" y="847800"/>
            <a:ext cx="6237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 Christmas Eve ev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celebrating, it’s 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 Christmas Eve ev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decorating, it’s 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24560" y="968400"/>
            <a:ext cx="703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l the joy it’s bringing. Ev’ry heart is sin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he jolliest, merriest, second best eve of all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0400" y="838080"/>
            <a:ext cx="7108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our fav’rite time of y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illed with happiness and che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illed with hope and joy, and peace and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ll good things we’re dreaming of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5560" y="644400"/>
            <a:ext cx="6387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 Christmas Eve ev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so excited, it’s 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 Christmas Eve ev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so delighted, it’s 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4440" y="1108080"/>
            <a:ext cx="7035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bells are ringing. All the jingles jing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he jolliest, merriest, second best eve of all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8000" y="533520"/>
            <a:ext cx="7020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more day till Christmas Ev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re days till Christmas Da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he jolliest, merriest, second best eve of all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mas Eve e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1:07:57Z</dcterms:created>
  <dc:creator>Katie Ebel</dc:creator>
  <dc:description/>
  <dc:language>en-US</dc:language>
  <cp:lastModifiedBy>Katherine Ebel</cp:lastModifiedBy>
  <cp:lastPrinted>2011-09-06T16:34:23Z</cp:lastPrinted>
  <dcterms:modified xsi:type="dcterms:W3CDTF">2011-09-06T16:35:55Z</dcterms:modified>
  <cp:revision>4</cp:revision>
  <dc:subject/>
  <dc:title>PowerPoint Presentation</dc:title>
</cp:coreProperties>
</file>