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13D-6624-43C2-8906-AD709938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A1C-B918-44BB-A72A-0538B928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B69-5DD9-4E19-9DD2-88249177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8B4-6B2F-4E16-92C8-0B796AF7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12B-FF1C-4B8C-8058-6182C8A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394-3DF6-4DE2-8E72-A36F4F73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68A-368E-437C-A7EE-681AF770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144-5E45-4EAF-AFBE-FDA22F0F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402-9C1F-4012-8654-E183C69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4F1-D6E5-47A4-8408-68EC63E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3B9-EF91-4846-B0F5-05D64E19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572-2947-4F36-8AEB-2D6E6B5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T’S TIME TO FLY!, Teresa Jenn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11 Plank Road Publishing, Inc. • All Rights Reser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5A8-E2CC-48EA-8CD4-653C8FC5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2805120" cy="396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341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5480" y="644400"/>
            <a:ext cx="52952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no wings. So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lifting off right n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your worries far aw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n’t need them here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 the reigns and shout, “Hurr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up and away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040" y="1371600"/>
            <a:ext cx="4537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ing, flying, flying hi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with us up to the sk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gs don’t matter, if you 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believe and you can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06480" y="1165320"/>
            <a:ext cx="29926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no w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hou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hat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lifting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hou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now!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960" y="1371600"/>
            <a:ext cx="47390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your worries far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n’t need them here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 the reigns and shou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hou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urray!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up and away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040" y="1371600"/>
            <a:ext cx="4537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ing, flying, flying hi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with us up to the sk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gs don’t matter, if you 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believe and you can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2640" y="990720"/>
            <a:ext cx="44204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ing, flying! We are fly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ime to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18:53Z</dcterms:created>
  <dc:creator>Katie Ebel</dc:creator>
  <dc:description/>
  <dc:language>en-US</dc:language>
  <cp:lastModifiedBy>Katherine Ebel</cp:lastModifiedBy>
  <cp:lastPrinted>2011-09-06T14:53:39Z</cp:lastPrinted>
  <dcterms:modified xsi:type="dcterms:W3CDTF">2011-09-06T14:53:56Z</dcterms:modified>
  <cp:revision>3</cp:revision>
  <dc:subject/>
  <dc:title>PowerPoint Presentation</dc:title>
</cp:coreProperties>
</file>