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761-BE05-463B-AD6D-FBA1AFD8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525-F699-4ABF-A425-6406BC25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509-8597-4830-A1C7-19684F5D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022-516B-4905-A2C0-E7D927D8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C97-C7F3-42A0-B81B-70AC4DE4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CAB-F22A-48EF-B60F-3A54E24E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373-132F-466F-A622-FABA0F18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417-74DC-436A-8940-4960608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7C2-B250-4746-BF0A-6A8BE44D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1E8-5CE3-4FBD-91FB-DC4AA79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D3A-9F10-414E-BB74-8BADB4A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0DA-9CC7-4A87-A70C-3E4EDDDC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ORDS CAN HURT, Teresa Jenn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11 Plank Road Publishing, Inc. • All Rights Reserv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42E7-1944-400E-8BAF-5BF652C12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048120" y="4040280"/>
            <a:ext cx="2971800" cy="22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371600" y="1722600"/>
            <a:ext cx="62848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57440" y="1506600"/>
            <a:ext cx="21024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tter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lo (opt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tter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8880" y="838080"/>
            <a:ext cx="45759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lo (optional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can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areful what you 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think before you spea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tter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2000" y="1066680"/>
            <a:ext cx="38916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l have feel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s a thing we sh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we just forg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uld try to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20960" y="1143000"/>
            <a:ext cx="3951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words have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good or b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our words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omebody 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7240" y="1066680"/>
            <a:ext cx="4575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, words can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areful what you 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think before you spea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tter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04400" y="1076400"/>
            <a:ext cx="47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l are hum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ll feel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we say some th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just can’t expl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6400" y="1143000"/>
            <a:ext cx="3960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’re not thoughtf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speak our mind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we say th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too un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240" y="1066680"/>
            <a:ext cx="4575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, words can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areful what you 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think before you spea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tter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2560" y="1030320"/>
            <a:ext cx="457596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, words can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areful what you 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think before you spea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tter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1:59:49Z</dcterms:created>
  <dc:creator>Katie Ebel</dc:creator>
  <dc:description/>
  <dc:language>en-US</dc:language>
  <cp:lastModifiedBy>Katherine Ebel</cp:lastModifiedBy>
  <cp:lastPrinted>2011-09-06T18:08:59Z</cp:lastPrinted>
  <dcterms:modified xsi:type="dcterms:W3CDTF">2011-09-06T18:10:47Z</dcterms:modified>
  <cp:revision>5</cp:revision>
  <dc:subject/>
  <dc:title>PowerPoint Presentation</dc:title>
</cp:coreProperties>
</file>