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F97-3ED7-476D-8025-BAD09222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701-AC2A-4D5B-B9D8-B848275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C00-DA26-4695-B73A-38895A71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E10-1D06-4937-B35E-08764D5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7C3-5F11-4406-8611-5B5A218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22E-890C-4A0C-9C3D-1071C3DA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659-CBDE-4335-878E-AFFA2A90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C3D-03DF-4CCD-9A1D-07CA843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922-9084-49EB-95F5-9A2C1B4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ECC-50A7-4A96-8A4F-5BB3310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2B0-8120-4557-A2A4-FF43677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FD3-A9C4-44F2-AF8E-0261FF2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N YOU PLEASE SAVE CHRISTMAS?, Teresa Jenn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11 Plank Road Publishing, Inc. • All Rights Reser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3AB-FC14-4A0C-9F47-DB58E328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629400" y="609480"/>
            <a:ext cx="2270160" cy="233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1532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120" y="1066680"/>
            <a:ext cx="67460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after year aft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s like there’s trouble with Christ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w it’s perfectly cl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it really might miss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imagine how sad it would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othing from Santa Claus under the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7880" y="2057400"/>
            <a:ext cx="68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oken sol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ooo! That’s impossibl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optional, ad lib other comments, wailing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25880" y="609480"/>
            <a:ext cx="4845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lease save Christm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, pretty ple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tty pl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Saint Nich’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no Christm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help us ple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e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266688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d lib whimpering, crying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6200" y="838080"/>
            <a:ext cx="6324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after year aft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has some kind of da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izzards, amnesia, or f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ts, or alien str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we’re certain catastrophe’s he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t could keep Chris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oming this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828800"/>
            <a:ext cx="62326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oken sol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ally could! Ahhhh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opt., ad lib other comments, wailing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25880" y="609480"/>
            <a:ext cx="4845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lease save Christm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, pretty ple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tty pl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Saint Nich’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no Christm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help us ple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poken sol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eease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057320"/>
            <a:ext cx="4757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uch is certa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is curtain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help us ple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lease save Christ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, sho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ease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43:08Z</dcterms:created>
  <dc:creator>Katie Ebel</dc:creator>
  <dc:description/>
  <dc:language>en-US</dc:language>
  <cp:lastModifiedBy>Katherine Ebel</cp:lastModifiedBy>
  <cp:lastPrinted>2011-09-06T14:58:05Z</cp:lastPrinted>
  <dcterms:modified xsi:type="dcterms:W3CDTF">2011-09-06T14:58:18Z</dcterms:modified>
  <cp:revision>3</cp:revision>
  <dc:subject/>
  <dc:title>PowerPoint Presentation</dc:title>
</cp:coreProperties>
</file>