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HY WON’T YOU FLY?, Teresa Jenn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11 Plank Road Publishing, Inc. • All Rights Reserv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96080" y="6324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128C-77D6-4D93-97D0-1C793AFDB72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477120" y="2590920"/>
            <a:ext cx="2274840" cy="40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9627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1400" y="568440"/>
            <a:ext cx="5592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er, Dancer, Prancer, Vix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t, Cupid, Donner, Blitz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could talk to u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know that we would listen, lis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our full atten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all ears, and did we men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could hear you spea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d understand your apprehen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77840" y="1752480"/>
            <a:ext cx="53989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n’t you, why won’t you f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birdie in the s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n’t you, why won’t you f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birdie in the s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3680" y="1838160"/>
            <a:ext cx="5770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ic reindeer meant to fl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n’t you soar up to the sk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Eve is almost he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’t happen without reindeer fly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080" y="609480"/>
            <a:ext cx="62964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er, Dancer, Prancer, Vix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t, Cupid, Donner, Blitz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not completely cl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e know something’s missin’, missin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some inform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the incl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eally need you for 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borne Christmas transpor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27160" y="1317600"/>
            <a:ext cx="53989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n’t you, why won’t you f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birdie in the s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n’t you, why won’t you f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birdie in the s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1:24:51Z</dcterms:created>
  <dc:creator>Katie Ebel</dc:creator>
  <dc:description/>
  <dc:language>en-US</dc:language>
  <cp:lastModifiedBy>Katherine Ebel</cp:lastModifiedBy>
  <cp:lastPrinted>2011-09-06T14:59:52Z</cp:lastPrinted>
  <dcterms:modified xsi:type="dcterms:W3CDTF">2011-09-06T15:00:02Z</dcterms:modified>
  <cp:revision>4</cp:revision>
  <dc:subject/>
  <dc:title>PowerPoint Presentation</dc:title>
</cp:coreProperties>
</file>